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EE50-3079-4594-9AB2-EF49C05A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8D2E-D861-4027-AFB5-51833BF8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15F6-A4C3-4602-A79C-1A00DDE4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D1E9-0C03-4860-A6E6-5A4669DE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6049-1E92-4414-B47E-5DAD2F03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AAC8-EEAF-48C7-854C-98422172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9B6-2962-4E1F-8CA3-86E3F023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937F-43DB-45F0-B762-88E6B41F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F46A-2D65-411C-A5C6-BB3C3084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78FB-FE9B-47BA-99C2-83119F08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C99-A7D6-4C81-ACDD-F16D60B1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5063-9612-4A65-BD8F-ABAAA033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1957-EDE9-4FA0-AA60-9C75D1698D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611280" y="-387360"/>
            <a:ext cx="820872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ОСОБЕННОСТИ РАБОТЫ С СЕМЬЕЙ, ВОСПИТЫВАЮЩЕЙ РЕБЕНКА </a:t>
            </a:r>
            <a:br>
              <a:rPr sz="3200"/>
            </a:br>
            <a:r>
              <a:rPr b="1" i="1" lang="ru-RU" sz="3200" spc="-1" strike="noStrike">
                <a:solidFill>
                  <a:srgbClr val="008080"/>
                </a:solidFill>
                <a:latin typeface="Arial"/>
              </a:rPr>
              <a:t>С ОГРАНИЧЕНН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4"/>
          <p:cNvSpPr/>
          <p:nvPr/>
        </p:nvSpPr>
        <p:spPr>
          <a:xfrm>
            <a:off x="4932360" y="4724280"/>
            <a:ext cx="381636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.В.Аши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циальный педагог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БОУ СОШ №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.Новопетров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C:\Users\Елена\Desktop\P1000573.JPG"/>
          <p:cNvPicPr/>
          <p:nvPr/>
        </p:nvPicPr>
        <p:blipFill>
          <a:blip r:embed="rId1"/>
          <a:stretch/>
        </p:blipFill>
        <p:spPr>
          <a:xfrm>
            <a:off x="755640" y="3105000"/>
            <a:ext cx="3984480" cy="298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9" descr="сеть"/>
          <p:cNvPicPr/>
          <p:nvPr/>
        </p:nvPicPr>
        <p:blipFill>
          <a:blip r:embed="rId1"/>
          <a:stretch/>
        </p:blipFill>
        <p:spPr>
          <a:xfrm>
            <a:off x="5940360" y="47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53276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Elephant"/>
              </a:rPr>
              <a:t>Результатами успеш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8000"/>
                </a:solidFill>
                <a:latin typeface="Elephant"/>
              </a:rPr>
              <a:t>с родителями являют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4"/>
          <p:cNvSpPr/>
          <p:nvPr/>
        </p:nvSpPr>
        <p:spPr>
          <a:xfrm>
            <a:off x="3132000" y="3284640"/>
            <a:ext cx="2737080" cy="259236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4c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ой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5"/>
          <p:cNvSpPr/>
          <p:nvPr/>
        </p:nvSpPr>
        <p:spPr>
          <a:xfrm>
            <a:off x="324000" y="3213000"/>
            <a:ext cx="2735280" cy="259236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5cc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оя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6"/>
          <p:cNvSpPr/>
          <p:nvPr/>
        </p:nvSpPr>
        <p:spPr>
          <a:xfrm>
            <a:off x="5940360" y="3284640"/>
            <a:ext cx="2844720" cy="2520720"/>
          </a:xfrm>
          <a:prstGeom prst="pie">
            <a:avLst/>
          </a:prstGeom>
          <a:gradFill rotWithShape="0">
            <a:gsLst>
              <a:gs pos="0">
                <a:srgbClr val="ffcc00"/>
              </a:gs>
              <a:gs pos="100000">
                <a:srgbClr val="fff5c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в семь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он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ю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7"/>
          <p:cNvSpPr/>
          <p:nvPr/>
        </p:nvSpPr>
        <p:spPr>
          <a:xfrm>
            <a:off x="611280" y="5877000"/>
            <a:ext cx="7921440" cy="698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ff"/>
              </a:gs>
              <a:gs pos="100000">
                <a:srgbClr val="ffcc00"/>
              </a:gs>
            </a:gsLst>
            <a:lin ang="5400000"/>
          </a:gra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РЕАЛИЗАЦИЯ ВОЗМОЖНОСТЕЙ РАЗВИТИЯ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>
            <a:off x="395280" y="549360"/>
            <a:ext cx="820908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«… Именно в семье создаются уникальные усло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для  формирования ценностных ориентаций, установ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эмоционального    отношения    к    другим   людям,  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</a:rPr>
              <a:t>создает основу для развития личности ребенка в цел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Е.А. Стребелева, А.В Зацеп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8000"/>
                </a:solidFill>
                <a:latin typeface="Arial"/>
              </a:rPr>
              <a:t>(Дефектология, 1, 2005, с. 4)</a:t>
            </a: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9" descr="C:\Users\Елена\Desktop\P1010813.JPG"/>
          <p:cNvPicPr/>
          <p:nvPr/>
        </p:nvPicPr>
        <p:blipFill>
          <a:blip r:embed="rId1"/>
          <a:stretch/>
        </p:blipFill>
        <p:spPr>
          <a:xfrm>
            <a:off x="509760" y="2421000"/>
            <a:ext cx="4706640" cy="35290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Elephant"/>
              </a:rPr>
              <a:t>Периоды, связанные со стрессом в семьях, имеющих детей с проблемами в развитии</a:t>
            </a:r>
            <a:br>
              <a:rPr sz="3200"/>
            </a:br>
            <a:r>
              <a:rPr b="0" lang="ru-RU" sz="2400" spc="-1" strike="noStrike">
                <a:solidFill>
                  <a:srgbClr val="008000"/>
                </a:solidFill>
                <a:latin typeface="Elephant"/>
              </a:rPr>
              <a:t>(по Торнбал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5"/>
          <p:cNvSpPr/>
          <p:nvPr/>
        </p:nvSpPr>
        <p:spPr>
          <a:xfrm>
            <a:off x="971640" y="1773360"/>
            <a:ext cx="2520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ждение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6"/>
          <p:cNvSpPr/>
          <p:nvPr/>
        </p:nvSpPr>
        <p:spPr>
          <a:xfrm>
            <a:off x="324000" y="1700280"/>
            <a:ext cx="502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8"/>
          <p:cNvSpPr/>
          <p:nvPr/>
        </p:nvSpPr>
        <p:spPr>
          <a:xfrm>
            <a:off x="324000" y="2708280"/>
            <a:ext cx="502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9"/>
          <p:cNvSpPr/>
          <p:nvPr/>
        </p:nvSpPr>
        <p:spPr>
          <a:xfrm>
            <a:off x="324000" y="3716280"/>
            <a:ext cx="5029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0"/>
          <p:cNvSpPr/>
          <p:nvPr/>
        </p:nvSpPr>
        <p:spPr>
          <a:xfrm>
            <a:off x="324000" y="4797360"/>
            <a:ext cx="50292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21"/>
          <p:cNvSpPr/>
          <p:nvPr/>
        </p:nvSpPr>
        <p:spPr>
          <a:xfrm>
            <a:off x="324000" y="5734080"/>
            <a:ext cx="5029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971640" y="2781360"/>
            <a:ext cx="2520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971640" y="3789360"/>
            <a:ext cx="25192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ростковый воз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971640" y="4869000"/>
            <a:ext cx="25207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 «выпу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5"/>
          <p:cNvSpPr/>
          <p:nvPr/>
        </p:nvSpPr>
        <p:spPr>
          <a:xfrm>
            <a:off x="971640" y="5734080"/>
            <a:ext cx="252072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родитель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6"/>
          <p:cNvSpPr/>
          <p:nvPr/>
        </p:nvSpPr>
        <p:spPr>
          <a:xfrm>
            <a:off x="3708360" y="1628640"/>
            <a:ext cx="518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чение точного диагноза, эмоционально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ыкание, информирование других чле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м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7"/>
          <p:cNvSpPr/>
          <p:nvPr/>
        </p:nvSpPr>
        <p:spPr>
          <a:xfrm>
            <a:off x="826920" y="191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>
            <a:off x="3492360" y="19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9"/>
          <p:cNvSpPr/>
          <p:nvPr/>
        </p:nvSpPr>
        <p:spPr>
          <a:xfrm>
            <a:off x="3708360" y="2637000"/>
            <a:ext cx="5111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бор формы обучения, устройство, пер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кции сверстников, организация внешкольн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0"/>
          <p:cNvSpPr/>
          <p:nvPr/>
        </p:nvSpPr>
        <p:spPr>
          <a:xfrm>
            <a:off x="3708360" y="3645000"/>
            <a:ext cx="5111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блемы с сексуальностью, пережи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оляции от сверстников, планирование буду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нят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1"/>
          <p:cNvSpPr/>
          <p:nvPr/>
        </p:nvSpPr>
        <p:spPr>
          <a:xfrm>
            <a:off x="3708360" y="4653000"/>
            <a:ext cx="51116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ыкание к семейной ответственности, выб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живания, переживание дефицита возможно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го социа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"/>
          <p:cNvSpPr/>
          <p:nvPr/>
        </p:nvSpPr>
        <p:spPr>
          <a:xfrm>
            <a:off x="3708360" y="5661000"/>
            <a:ext cx="51847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тройка взаимоотношений в сем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заимодействие со специалистами по мест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бывания ребе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3"/>
          <p:cNvSpPr/>
          <p:nvPr/>
        </p:nvSpPr>
        <p:spPr>
          <a:xfrm>
            <a:off x="349236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>
            <a:off x="826920" y="2924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826920" y="3933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7"/>
          <p:cNvSpPr/>
          <p:nvPr/>
        </p:nvSpPr>
        <p:spPr>
          <a:xfrm>
            <a:off x="349236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8"/>
          <p:cNvSpPr/>
          <p:nvPr/>
        </p:nvSpPr>
        <p:spPr>
          <a:xfrm>
            <a:off x="826920" y="5013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9"/>
          <p:cNvSpPr/>
          <p:nvPr/>
        </p:nvSpPr>
        <p:spPr>
          <a:xfrm>
            <a:off x="3492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0"/>
          <p:cNvSpPr/>
          <p:nvPr/>
        </p:nvSpPr>
        <p:spPr>
          <a:xfrm>
            <a:off x="826920" y="59500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1"/>
          <p:cNvSpPr/>
          <p:nvPr/>
        </p:nvSpPr>
        <p:spPr>
          <a:xfrm>
            <a:off x="3492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2"/>
          <p:cNvSpPr/>
          <p:nvPr/>
        </p:nvSpPr>
        <p:spPr>
          <a:xfrm>
            <a:off x="539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3"/>
          <p:cNvSpPr/>
          <p:nvPr/>
        </p:nvSpPr>
        <p:spPr>
          <a:xfrm>
            <a:off x="539640" y="3141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4"/>
          <p:cNvSpPr/>
          <p:nvPr/>
        </p:nvSpPr>
        <p:spPr>
          <a:xfrm>
            <a:off x="539640" y="4149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6"/>
          <p:cNvSpPr/>
          <p:nvPr/>
        </p:nvSpPr>
        <p:spPr>
          <a:xfrm>
            <a:off x="539640" y="52293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852640"/>
            <a:ext cx="821844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Elephant"/>
              </a:rPr>
              <a:t>Реакции родителей, когда они узнают,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Elephant"/>
              </a:rPr>
              <a:t>что у них «особый» ребе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55640" y="1484280"/>
            <a:ext cx="10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3327480" y="1576440"/>
            <a:ext cx="174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 flipH="1" flipV="1">
            <a:off x="3851280" y="1699920"/>
            <a:ext cx="649440" cy="1152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V="1">
            <a:off x="4500720" y="1628640"/>
            <a:ext cx="647640" cy="1224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1"/>
          <p:cNvSpPr/>
          <p:nvPr/>
        </p:nvSpPr>
        <p:spPr>
          <a:xfrm flipH="1">
            <a:off x="3995280" y="3933720"/>
            <a:ext cx="505080" cy="1368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4"/>
          <p:cNvSpPr/>
          <p:nvPr/>
        </p:nvSpPr>
        <p:spPr>
          <a:xfrm>
            <a:off x="4500720" y="3933720"/>
            <a:ext cx="647640" cy="136692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1"/>
          <p:cNvSpPr/>
          <p:nvPr/>
        </p:nvSpPr>
        <p:spPr>
          <a:xfrm>
            <a:off x="5148360" y="620640"/>
            <a:ext cx="3527280" cy="180036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типичная реак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врачебный диагноз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верие в существ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оле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2"/>
          <p:cNvSpPr/>
          <p:nvPr/>
        </p:nvSpPr>
        <p:spPr>
          <a:xfrm>
            <a:off x="395280" y="4076640"/>
            <a:ext cx="3600360" cy="201636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чувство в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живания по пов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вершенных ошибо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торые по их мнению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вели к боле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3"/>
          <p:cNvSpPr/>
          <p:nvPr/>
        </p:nvSpPr>
        <p:spPr>
          <a:xfrm>
            <a:off x="5148360" y="4076640"/>
            <a:ext cx="3527280" cy="194472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эмоцион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адап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ключительный этап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ия болезн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воего ребен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4"/>
          <p:cNvSpPr/>
          <p:nvPr/>
        </p:nvSpPr>
        <p:spPr>
          <a:xfrm>
            <a:off x="324000" y="620640"/>
            <a:ext cx="3527280" cy="1871640"/>
          </a:xfrm>
          <a:prstGeom prst="flowChartTerminator">
            <a:avLst/>
          </a:prstGeom>
          <a:solidFill>
            <a:srgbClr val="ff99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г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никает на почве ощущ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еспомощности, безысход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разочарования, как в самом себ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 и в своем ребен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Elephant"/>
              </a:rPr>
              <a:t>Специфические особенности родительского повед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395280" y="1773360"/>
            <a:ext cx="820908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желание  родителей  принимать  медицинские диагнозы,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егание специалистов, констатирующих реальную ситуа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днозначное отношение к комплексной психолого-медико-педагогической  помощи  (перекосы в придания  значимости или медицине, или педагогик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онность родителей скрывать фак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блемного  развития ребенка в общении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3" descr="j0199364"/>
          <p:cNvPicPr/>
          <p:nvPr/>
        </p:nvPicPr>
        <p:blipFill>
          <a:blip r:embed="rId1"/>
          <a:stretch/>
        </p:blipFill>
        <p:spPr>
          <a:xfrm>
            <a:off x="6443640" y="4365720"/>
            <a:ext cx="20890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Elephant"/>
              </a:rPr>
              <a:t>Семья с «особым» ребенк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j0404243"/>
          <p:cNvPicPr/>
          <p:nvPr/>
        </p:nvPicPr>
        <p:blipFill>
          <a:blip r:embed="rId1"/>
          <a:stretch/>
        </p:blipFill>
        <p:spPr>
          <a:xfrm>
            <a:off x="3564000" y="1268280"/>
            <a:ext cx="1568520" cy="18162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0"/>
          <p:cNvSpPr/>
          <p:nvPr/>
        </p:nvSpPr>
        <p:spPr>
          <a:xfrm>
            <a:off x="539640" y="3212280"/>
            <a:ext cx="83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1800" spc="-1" strike="noStrike">
                <a:solidFill>
                  <a:srgbClr val="9900cc"/>
                </a:solidFill>
                <a:latin typeface="Tahoma"/>
              </a:rPr>
              <a:t>ПОНИМАЕТ ПРОБЛЕМУ                      НЕ ПОНИМАЕТ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1"/>
          <p:cNvSpPr/>
          <p:nvPr/>
        </p:nvSpPr>
        <p:spPr>
          <a:xfrm>
            <a:off x="5148360" y="2421000"/>
            <a:ext cx="1439640" cy="79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 flipH="1">
            <a:off x="2340000" y="2421000"/>
            <a:ext cx="1224000" cy="72072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5292720" y="40752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ИНИМАЕТ ПРОБЛЕМУ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7164360" y="396900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НЕ ПРИНИМ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ОБЛЕМУ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826920" y="407520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ИНИМ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 </a:t>
            </a: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ОБЛЕМУ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2627280" y="3969000"/>
            <a:ext cx="1441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НЕ ПРИНИМА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cc"/>
                </a:solidFill>
                <a:latin typeface="Arial Narrow"/>
              </a:rPr>
              <a:t>ПРОБЛЕМУ</a:t>
            </a: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>
            <a:off x="2843280" y="3573360"/>
            <a:ext cx="43344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2"/>
          <p:cNvSpPr/>
          <p:nvPr/>
        </p:nvSpPr>
        <p:spPr>
          <a:xfrm flipH="1">
            <a:off x="1547640" y="3573360"/>
            <a:ext cx="43200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3"/>
          <p:cNvSpPr/>
          <p:nvPr/>
        </p:nvSpPr>
        <p:spPr>
          <a:xfrm flipH="1">
            <a:off x="5867280" y="3573360"/>
            <a:ext cx="43200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4"/>
          <p:cNvSpPr/>
          <p:nvPr/>
        </p:nvSpPr>
        <p:spPr>
          <a:xfrm>
            <a:off x="7451640" y="3573360"/>
            <a:ext cx="433440" cy="50328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80520" y="5387400"/>
            <a:ext cx="1666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ИЩ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  </a:t>
            </a: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ПОМОЩЬ</a:t>
            </a:r>
            <a:r>
              <a:rPr b="1" lang="ru-RU" sz="2000" spc="-1" strike="noStrike">
                <a:solidFill>
                  <a:srgbClr val="008000"/>
                </a:solidFill>
                <a:latin typeface="Elephant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2327040" y="5403240"/>
            <a:ext cx="15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ЗАКРЫТ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СЕМЬЯ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4222440" y="5387400"/>
            <a:ext cx="2134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ИНТУИ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  </a:t>
            </a: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ВОСПИТАНИЕ</a:t>
            </a:r>
            <a:r>
              <a:rPr b="1" lang="ru-RU" sz="2000" spc="-1" strike="noStrike">
                <a:solidFill>
                  <a:srgbClr val="008000"/>
                </a:solidFill>
                <a:latin typeface="Elephan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6552360" y="540324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МУЛЬТИСЛОЖ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Elephant"/>
              </a:rPr>
              <a:t>СИТУАЦ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5724360" y="4653000"/>
            <a:ext cx="0" cy="72072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1332000" y="4581360"/>
            <a:ext cx="0" cy="79236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3348000" y="4653000"/>
            <a:ext cx="0" cy="79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2"/>
          <p:cNvSpPr/>
          <p:nvPr/>
        </p:nvSpPr>
        <p:spPr>
          <a:xfrm>
            <a:off x="7885080" y="4653000"/>
            <a:ext cx="0" cy="792000"/>
          </a:xfrm>
          <a:prstGeom prst="line">
            <a:avLst/>
          </a:prstGeom>
          <a:ln w="316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Elephant"/>
              </a:rPr>
              <a:t>Информация, необходимая для организации поддержки семь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став семьи, возраст, профе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разовательный и культурный уровни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щая семейная атмосфера, характер семейных взаимоотношений, степень эмоциональной близ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оритеты в воспитании, согласованность взрослых в требованиях к ребе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ьные усло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тадия адаптации семьи к ситуации     рождения ребенка с пробл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товность родителей к             сотрудничеству со специ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j0280530"/>
          <p:cNvPicPr/>
          <p:nvPr/>
        </p:nvPicPr>
        <p:blipFill>
          <a:blip r:embed="rId1"/>
          <a:stretch/>
        </p:blipFill>
        <p:spPr>
          <a:xfrm>
            <a:off x="6877080" y="4365720"/>
            <a:ext cx="18223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Elephant"/>
              </a:rPr>
              <a:t>Стадии адаптации семьи к ситуации рождения ребенка с проблем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2565360"/>
            <a:ext cx="244800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 Ш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рессии, отриц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ы, пои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виноват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емье раст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пряженность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худшает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оциально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сихологическ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лим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132000" y="2565360"/>
            <a:ext cx="273528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 СКОРБ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здоровому ребен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го 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мья уже понима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вою значимость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тветственность з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бенка, но чувствуе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еспомощ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вопросах воспита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ищет сов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у специалис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156360" y="2565360"/>
            <a:ext cx="2448000" cy="35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Д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одители входя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 ситуаци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начин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троить жиз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 учетом т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о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особы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бе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468360" y="1989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 flipV="1">
            <a:off x="3132000" y="2060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V="1">
            <a:off x="6156360" y="1915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468360" y="1628640"/>
            <a:ext cx="2663640" cy="48600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3132000" y="1628640"/>
            <a:ext cx="3024360" cy="486000"/>
          </a:xfrm>
          <a:custGeom>
            <a:avLst/>
            <a:gdLst>
              <a:gd name="textAreaLeft" fmla="*/ 0 w 3024360"/>
              <a:gd name="textAreaRight" fmla="*/ 3024720 w 302436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9"/>
          <p:cNvSpPr/>
          <p:nvPr/>
        </p:nvSpPr>
        <p:spPr>
          <a:xfrm>
            <a:off x="6156360" y="1628640"/>
            <a:ext cx="2519280" cy="48600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00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тья ста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4"/>
          <p:cNvSpPr/>
          <p:nvPr/>
        </p:nvSpPr>
        <p:spPr>
          <a:xfrm>
            <a:off x="4356000" y="4292640"/>
            <a:ext cx="486000" cy="833400"/>
          </a:xfrm>
          <a:prstGeom prst="downArrow">
            <a:avLst>
              <a:gd name="adj1" fmla="val 50000"/>
              <a:gd name="adj2" fmla="val 428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4356000" y="2421000"/>
            <a:ext cx="486000" cy="833400"/>
          </a:xfrm>
          <a:prstGeom prst="downArrow">
            <a:avLst>
              <a:gd name="adj1" fmla="val 50000"/>
              <a:gd name="adj2" fmla="val 428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Elephant"/>
              </a:rPr>
              <a:t>Модель формирования позиции родителей «особого» ребе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26920" y="1557360"/>
            <a:ext cx="76327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ЕРВЫ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 на привлечение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ррекционно-развивающему процес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важно убедить, что никто, кроме родителей, не поможет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755640" y="3284640"/>
            <a:ext cx="7632720" cy="13683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ТОРО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 на формирование увлечения родит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ссом развития ребен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важно показать ежедневные достиже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обучить отрабатывать задания специалист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684360" y="5157720"/>
            <a:ext cx="7632720" cy="12240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ТРЕТИЙ ЭТ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 на развитие творческих подходов род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обучению и разви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важно показать возможность родительских исследова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7:49:02Z</dcterms:created>
  <dc:creator>student</dc:creator>
  <dc:description/>
  <dc:language>en-US</dc:language>
  <cp:lastModifiedBy>Елена</cp:lastModifiedBy>
  <dcterms:modified xsi:type="dcterms:W3CDTF">2014-01-26T18:23:19Z</dcterms:modified>
  <cp:revision>25</cp:revision>
  <dc:subject/>
  <dc:title>Слайд 1</dc:title>
</cp:coreProperties>
</file>